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jetflyby2.wav" ContentType="audio/x-wav"/>
  <Override PartName="/ppt/media/highchime.wav" ContentType="audio/x-wav"/>
  <Override PartName="/ppt/media/hzipup01.wav" ContentType="audio/x-wav"/>
  <Override PartName="/ppt/media/caralarmoff.wav" ContentType="audio/x-wav"/>
  <Override PartName="/ppt/media/lzipup01.wav" ContentType="audio/x-wav"/>
  <Override PartName="/ppt/media/zipby102.wav" ContentType="audio/x-wav"/>
  <Override PartName="/ppt/media/chimes.wav" ContentType="audio/x-wav"/>
  <Override PartName="/ppt/media/projctor.wav" ContentType="audio/x-wav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DB2-D24E-4848-9AC6-FF62E25F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D11-AF02-4F7A-B8DA-1E1E59A5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E0C-B23C-42EA-9042-BEC62070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56D-384C-46BE-AFFA-5E1D3959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11C-48A6-4D1F-BBE7-7FAC547E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66F-90C5-453D-A234-4FE44C80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DD0-17DB-49F4-AC85-DFAC7D86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5D9-199C-4EDA-B719-A08C5F12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E56-52E4-4AED-913F-F797D955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172-7744-43C4-822C-420B308B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D4C-9F05-4F9C-BEC7-A4089D25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6FA-411B-4255-8771-029FDDE7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F704-5821-4157-A771-412F2CD08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zipdn102.wav"/><Relationship Id="rId5" Type="http://schemas.openxmlformats.org/officeDocument/2006/relationships/audio" Target="../media/highchime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ipdn102.wav"/><Relationship Id="rId11" Type="http://schemas.openxmlformats.org/officeDocument/2006/relationships/audio" Target="../media/highchime.wav"/><Relationship Id="rId12" Type="http://schemas.openxmlformats.org/officeDocument/2006/relationships/audio" Target="../media/zipdn102.wav"/><Relationship Id="rId13" Type="http://schemas.openxmlformats.org/officeDocument/2006/relationships/audio" Target="../media/zapbig0g.wav"/><Relationship Id="rId14" Type="http://schemas.openxmlformats.org/officeDocument/2006/relationships/audio" Target="../media/hzipup01.wav"/><Relationship Id="rId15" Type="http://schemas.openxmlformats.org/officeDocument/2006/relationships/audio" Target="../media/zapbig0g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audio" Target="../media/laser.wav"/><Relationship Id="rId4" Type="http://schemas.openxmlformats.org/officeDocument/2006/relationships/audio" Target="../media/projctor.wav"/><Relationship Id="rId5" Type="http://schemas.openxmlformats.org/officeDocument/2006/relationships/audio" Target="../media/laser.wav"/><Relationship Id="rId6" Type="http://schemas.openxmlformats.org/officeDocument/2006/relationships/audio" Target="../media/projcto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audio" Target="../media/laser.wav"/><Relationship Id="rId4" Type="http://schemas.openxmlformats.org/officeDocument/2006/relationships/audio" Target="../media/projctor.wav"/><Relationship Id="rId5" Type="http://schemas.openxmlformats.org/officeDocument/2006/relationships/audio" Target="../media/laser.wav"/><Relationship Id="rId6" Type="http://schemas.openxmlformats.org/officeDocument/2006/relationships/audio" Target="../media/projcto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jetflyby2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highchime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hzipup01.wav"/><Relationship Id="rId10" Type="http://schemas.openxmlformats.org/officeDocument/2006/relationships/audio" Target="../media/zipdn102.wav"/><Relationship Id="rId11" Type="http://schemas.openxmlformats.org/officeDocument/2006/relationships/audio" Target="../media/highchime.wav"/><Relationship Id="rId12" Type="http://schemas.openxmlformats.org/officeDocument/2006/relationships/audio" Target="../media/zipdn102.wav"/><Relationship Id="rId13" Type="http://schemas.openxmlformats.org/officeDocument/2006/relationships/audio" Target="../media/zapbig0g.wav"/><Relationship Id="rId14" Type="http://schemas.openxmlformats.org/officeDocument/2006/relationships/audio" Target="../media/hzipup01.wav"/><Relationship Id="rId15" Type="http://schemas.openxmlformats.org/officeDocument/2006/relationships/audio" Target="../media/zapbig0g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zipdn102.wav"/><Relationship Id="rId4" Type="http://schemas.openxmlformats.org/officeDocument/2006/relationships/audio" Target="../media/highchime.wav"/><Relationship Id="rId5" Type="http://schemas.openxmlformats.org/officeDocument/2006/relationships/audio" Target="../media/zipdn102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highchime.wav"/><Relationship Id="rId9" Type="http://schemas.openxmlformats.org/officeDocument/2006/relationships/audio" Target="../media/zipdn102.wav"/><Relationship Id="rId10" Type="http://schemas.openxmlformats.org/officeDocument/2006/relationships/audio" Target="../media/zapbig0g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zipdn102.wav"/><Relationship Id="rId4" Type="http://schemas.openxmlformats.org/officeDocument/2006/relationships/audio" Target="../media/highchime.wav"/><Relationship Id="rId5" Type="http://schemas.openxmlformats.org/officeDocument/2006/relationships/audio" Target="../media/zipdn102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highchime.wav"/><Relationship Id="rId9" Type="http://schemas.openxmlformats.org/officeDocument/2006/relationships/audio" Target="../media/zipdn102.wav"/><Relationship Id="rId10" Type="http://schemas.openxmlformats.org/officeDocument/2006/relationships/audio" Target="../media/zapbig0g.wav"/><Relationship Id="rId11" Type="http://schemas.openxmlformats.org/officeDocument/2006/relationships/audio" Target="../media/hzipup01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ipby102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by102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by102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laser.wav"/><Relationship Id="rId5" Type="http://schemas.openxmlformats.org/officeDocument/2006/relationships/audio" Target="../media/projctor.wav"/><Relationship Id="rId6" Type="http://schemas.openxmlformats.org/officeDocument/2006/relationships/audio" Target="../media/laser.wav"/><Relationship Id="rId7" Type="http://schemas.openxmlformats.org/officeDocument/2006/relationships/audio" Target="../media/projcto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audio" Target="../media/laser.wav"/><Relationship Id="rId4" Type="http://schemas.openxmlformats.org/officeDocument/2006/relationships/audio" Target="../media/projctor.wav"/><Relationship Id="rId5" Type="http://schemas.openxmlformats.org/officeDocument/2006/relationships/audio" Target="../media/laser.wav"/><Relationship Id="rId6" Type="http://schemas.openxmlformats.org/officeDocument/2006/relationships/audio" Target="../media/projcto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8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1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Use the calculator to multiply or divi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84320" y="1260360"/>
                <a:ext cx="240012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25280" y="2955960"/>
                <a:ext cx="478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706320" y="3046320"/>
                <a:ext cx="478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400040" y="2971800"/>
                <a:ext cx="4366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624040" y="2989440"/>
                <a:ext cx="7714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025720" y="3165480"/>
                <a:ext cx="519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008600" y="1274760"/>
            <a:ext cx="51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Multiply the numer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22640" y="2084400"/>
            <a:ext cx="51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Multiply the denomin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0520" y="3745080"/>
                <a:ext cx="7826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22160" y="3807000"/>
                <a:ext cx="4780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415880" y="3732120"/>
                <a:ext cx="4366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568600" y="3754440"/>
                <a:ext cx="10713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041560" y="3925800"/>
                <a:ext cx="519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3992400" y="3941640"/>
            <a:ext cx="51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rite it as a fr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450800" y="4564080"/>
                <a:ext cx="7718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254240" y="4383000"/>
                <a:ext cx="11570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 the minimum, maximum, and the 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6765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996600"/>
              </a:buClr>
              <a:buSzPct val="140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996600"/>
                </a:solidFill>
                <a:latin typeface="Times New Roman"/>
              </a:rPr>
              <a:t>7, 6, 8, 4, 2, 5, 6,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5440" y="3276720"/>
            <a:ext cx="21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inim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670120" y="3200400"/>
                <a:ext cx="11732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579600" y="441972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xim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12960" y="4367160"/>
                <a:ext cx="1041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39720" y="5546880"/>
            <a:ext cx="23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an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643120" y="5494320"/>
                <a:ext cx="2036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670280" y="5510160"/>
                <a:ext cx="10875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 the minimum, maximum, and the 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6765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996600"/>
              </a:buClr>
              <a:buSzPct val="140000"/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996600"/>
                </a:solidFill>
                <a:latin typeface="Times New Roman"/>
              </a:rPr>
              <a:t>4, 5, 6, 8, 4, 9, 4, 5, 3,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5440" y="3276720"/>
            <a:ext cx="21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inim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693880" y="3176640"/>
                <a:ext cx="11239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579600" y="441972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xim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712960" y="4367160"/>
                <a:ext cx="1041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39720" y="5546880"/>
            <a:ext cx="23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an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643120" y="5494320"/>
                <a:ext cx="2036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670280" y="5510160"/>
                <a:ext cx="10875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771480"/>
            <a:ext cx="9144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35, 9 – 8 #1 – 6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37, 9 – 9 #1 –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37, 9 – 9 #1 – 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85/8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8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71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Use the calculator to multiply or divid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0480" y="1260360"/>
                <a:ext cx="264924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76280" y="4668840"/>
                <a:ext cx="4777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177920" y="4759200"/>
                <a:ext cx="477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730520" y="4684680"/>
                <a:ext cx="4791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75120" y="4707000"/>
                <a:ext cx="8143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376360" y="4878360"/>
                <a:ext cx="519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4008600" y="1274760"/>
            <a:ext cx="51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Write as a multi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40120" y="1838160"/>
            <a:ext cx="440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Multiply the numerators. Multiply the denomin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360" y="5478480"/>
                <a:ext cx="825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073160" y="5519880"/>
                <a:ext cx="4777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746360" y="5467320"/>
                <a:ext cx="479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073320" y="5467320"/>
                <a:ext cx="8143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392200" y="5638680"/>
                <a:ext cx="519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768920" y="3406680"/>
            <a:ext cx="43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Write it as a fr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930920" y="4821120"/>
                <a:ext cx="8143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873680" y="4614840"/>
                <a:ext cx="90000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969840" y="2925720"/>
                <a:ext cx="182088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716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Use the calculator to multiply or divid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1600" y="1477800"/>
                <a:ext cx="3075120" cy="17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25520" y="3814920"/>
                <a:ext cx="5158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209600" y="3809880"/>
                <a:ext cx="5065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08200" y="3835440"/>
                <a:ext cx="9842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105680" y="3862440"/>
                <a:ext cx="16398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709720" y="3921120"/>
                <a:ext cx="5684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317840" y="1355760"/>
            <a:ext cx="48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ith a fraction key on a calculator, just type in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430440" y="3828960"/>
                <a:ext cx="8766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394160" y="3824280"/>
                <a:ext cx="5065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923000" y="3819600"/>
                <a:ext cx="9842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869080" y="4038480"/>
                <a:ext cx="619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549600" y="4711680"/>
                <a:ext cx="98280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8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16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Use the calculator to multiply or divid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47680" y="1477800"/>
                <a:ext cx="3073320" cy="17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93680" y="3798720"/>
                <a:ext cx="9810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209600" y="3809880"/>
                <a:ext cx="5065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709640" y="3860640"/>
                <a:ext cx="9828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340760" y="3846600"/>
                <a:ext cx="12636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684520" y="3921120"/>
                <a:ext cx="619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4317840" y="1355760"/>
            <a:ext cx="48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With a fraction key on a calculator, just type in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583080" y="3828960"/>
                <a:ext cx="568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394160" y="3824280"/>
                <a:ext cx="5065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986360" y="3828960"/>
                <a:ext cx="8287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869080" y="4038480"/>
                <a:ext cx="619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978280" y="5097600"/>
                <a:ext cx="224784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υ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41520" y="5118120"/>
                <a:ext cx="18079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b/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680080" y="4713120"/>
                <a:ext cx="168588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95468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99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ind the number of calories in 3 pieces of bre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problem by using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351080" y="5567400"/>
                <a:ext cx="9810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349360" y="5684760"/>
                <a:ext cx="5684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940120" y="5553000"/>
                <a:ext cx="5144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449520" y="5805360"/>
                <a:ext cx="619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133880" y="5537160"/>
                <a:ext cx="1292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1646280" y="1230480"/>
          <a:ext cx="6018120" cy="3682800"/>
        </p:xfrm>
        <a:graphic>
          <a:graphicData uri="http://schemas.openxmlformats.org/drawingml/2006/table">
            <a:tbl>
              <a:tblPr/>
              <a:tblGrid>
                <a:gridCol w="2544840"/>
                <a:gridCol w="1344600"/>
                <a:gridCol w="21286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o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ms Prot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p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iece of br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turkey bur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cup of yogu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ortion of pas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288040" y="5684760"/>
            <a:ext cx="20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alo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95468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99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Find the number of calories in 2 cups of yogur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4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problem by using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68400" y="5567400"/>
                <a:ext cx="12906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349360" y="5684760"/>
                <a:ext cx="5684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900520" y="5564160"/>
                <a:ext cx="5666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449520" y="5805360"/>
                <a:ext cx="619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083120" y="5537160"/>
                <a:ext cx="1395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9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6" name=""/>
          <p:cNvGraphicFramePr/>
          <p:nvPr/>
        </p:nvGraphicFramePr>
        <p:xfrm>
          <a:off x="1646280" y="1230480"/>
          <a:ext cx="6018120" cy="3641400"/>
        </p:xfrm>
        <a:graphic>
          <a:graphicData uri="http://schemas.openxmlformats.org/drawingml/2006/table">
            <a:tbl>
              <a:tblPr/>
              <a:tblGrid>
                <a:gridCol w="2544840"/>
                <a:gridCol w="1344600"/>
                <a:gridCol w="21286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o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ms Prot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p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iece of br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turkey bur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cup of yogu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ortion of pas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5288040" y="5684760"/>
            <a:ext cx="20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alo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95468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74"/>
              </a:spcBef>
              <a:buClr>
                <a:srgbClr val="000099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How many grams of protein are in 6 orang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4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the problem by using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96920" y="5567400"/>
                <a:ext cx="10317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349360" y="5684760"/>
                <a:ext cx="5684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00520" y="5538960"/>
                <a:ext cx="566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449520" y="5805360"/>
                <a:ext cx="6192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186080" y="5537160"/>
                <a:ext cx="11890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1646280" y="1230480"/>
          <a:ext cx="6018120" cy="3641400"/>
        </p:xfrm>
        <a:graphic>
          <a:graphicData uri="http://schemas.openxmlformats.org/drawingml/2006/table">
            <a:tbl>
              <a:tblPr/>
              <a:tblGrid>
                <a:gridCol w="2544840"/>
                <a:gridCol w="1344600"/>
                <a:gridCol w="21286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o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ms Prot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p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iece of br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turkey bur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cup of yogu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ortion of pas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181480" y="5684760"/>
            <a:ext cx="20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 the minimum, maximum, and the 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6765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996600"/>
              </a:buClr>
              <a:buSzPct val="14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996600"/>
                </a:solidFill>
                <a:latin typeface="Times New Roman"/>
              </a:rPr>
              <a:t>2, 3, 7, 8, 5, 4, 1, 3,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440" y="3276720"/>
            <a:ext cx="21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inim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743200" y="3200400"/>
                <a:ext cx="10270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579600" y="441972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xim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712960" y="4367160"/>
                <a:ext cx="1041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639720" y="5546880"/>
            <a:ext cx="23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an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709720" y="5494320"/>
                <a:ext cx="1901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70280" y="5510160"/>
                <a:ext cx="10875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 the minimum, maximum, and the r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6765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996600"/>
              </a:buClr>
              <a:buSzPct val="14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996600"/>
                </a:solidFill>
                <a:latin typeface="Times New Roman"/>
              </a:rPr>
              <a:t>8, 1, 4, 3, 9, 7,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5440" y="3276720"/>
            <a:ext cx="21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inim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743200" y="3200400"/>
                <a:ext cx="10270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79600" y="441972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xim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12960" y="4367160"/>
                <a:ext cx="1041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39720" y="5546880"/>
            <a:ext cx="23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an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687760" y="5494320"/>
                <a:ext cx="19461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692600" y="5510160"/>
                <a:ext cx="1042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6-02-17T20:02:05Z</dcterms:modified>
  <cp:revision>101</cp:revision>
  <dc:subject/>
  <dc:title>Slide 1</dc:title>
</cp:coreProperties>
</file>